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1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827-35C5-4566-947C-28C34F8B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2A9-1A80-41D1-9B03-E5C5DA01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990-2304-4002-86D7-A7EA1E44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74F-51BA-4150-82F2-19399937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D9CF-0C24-48A8-BB4D-6E7A4420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6C88-000F-4E5D-AFE1-E277E819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A49-C59B-4E93-8CF0-FA2C71B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7FF9-BD26-4441-89DF-DBB916B1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998E-F945-4D0A-A1C1-CD6F7205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6A7D-BA36-4F8E-86CF-3B72A7CC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7A5A-4949-4203-AB07-4E61F0A1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0EE-9850-414F-A265-74AF34B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6AEF-1453-4794-B1AA-982A18F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8525-FABE-4D62-A175-E7CF59C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4D29-32C3-4E9D-99C5-A72E8601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08D5-E0E0-4B4D-8FCB-F32578C8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91E9-8274-439C-9239-1CB58F93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319-3914-44AE-A893-2F9B4E01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F98-D0BD-4790-8ACC-F10C3C02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685-3246-43B0-B109-0035DF16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1B8-70FC-4B2F-BBE1-AC9B2EDC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53C-E3C9-4365-9621-7F64FEA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85A-2766-46B4-912E-64AA7EA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977-D9CD-460D-8445-D0704FF0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6297-CDEF-498B-A703-362CA86B3188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43E-AFF2-4880-9583-B78F58D34523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is a bunch of rules recognised by society as bind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857840" y="6357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C:\Program Files\Microsoft Office\Media\CntCD1\Animated\j0189249.gif"/>
          <p:cNvPicPr/>
          <p:nvPr/>
        </p:nvPicPr>
        <p:blipFill>
          <a:blip r:embed="rId2"/>
          <a:stretch/>
        </p:blipFill>
        <p:spPr>
          <a:xfrm>
            <a:off x="4643280" y="3286080"/>
            <a:ext cx="25146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ill is a proposal  for a new law or to adjust a existing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143680" y="6357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3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5286240" y="3000240"/>
            <a:ext cx="181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ederal is having to do with parliament of Australia or the  Australian government rather than state  parliaments  or state governm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286240" y="62866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5357880" y="3571920"/>
            <a:ext cx="1814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choice such as putting a hand up or making a piece of paper for a counting purpo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000920" y="64292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Program Files\Microsoft Office\Media\CntCD1\ClipArt5\j0280925.wmf"/>
          <p:cNvPicPr/>
          <p:nvPr/>
        </p:nvPicPr>
        <p:blipFill>
          <a:blip r:embed="rId2"/>
          <a:stretch/>
        </p:blipFill>
        <p:spPr>
          <a:xfrm>
            <a:off x="6357960" y="3071880"/>
            <a:ext cx="19429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coalition is the joining together of more than one parliaments parties to form a government  or a oppisi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357880" y="64292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C:\Program Files\Microsoft Office\Media\CntCD1\ClipArt6\j0287631.wmf"/>
          <p:cNvPicPr/>
          <p:nvPr/>
        </p:nvPicPr>
        <p:blipFill>
          <a:blip r:embed="rId2"/>
          <a:stretch/>
        </p:blipFill>
        <p:spPr>
          <a:xfrm>
            <a:off x="4286160" y="2786040"/>
            <a:ext cx="3475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ways obey the laws and rules!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2" descr="C:\Program Files\Microsoft Office\Media\CntCD1\ClipArt1\j0078776.wmf"/>
          <p:cNvPicPr/>
          <p:nvPr/>
        </p:nvPicPr>
        <p:blipFill>
          <a:blip r:embed="rId2"/>
          <a:stretch/>
        </p:blipFill>
        <p:spPr>
          <a:xfrm>
            <a:off x="2928960" y="2214720"/>
            <a:ext cx="40003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7:59Z</dcterms:created>
  <dc:creator>Education</dc:creator>
  <dc:description/>
  <dc:language>en-US</dc:language>
  <cp:lastModifiedBy>Education</cp:lastModifiedBy>
  <dcterms:modified xsi:type="dcterms:W3CDTF">2009-10-20T23:44:08Z</dcterms:modified>
  <cp:revision>9</cp:revision>
  <dc:subject/>
  <dc:title>Government Glossary!!!</dc:title>
</cp:coreProperties>
</file>